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9129-BF43-4A20-90DE-E57AE2CD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composition of terms using 2 or more ontolo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need to combine into one term, can be 2 separate terms as for our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tool Sohel in collaboration with Mark Gibson (NCB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based application as opposed to java stand-alon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using all obo format ontologies - best way to store data when it becomes more complex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220-EEF4-4B69-85E2-7E602176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AEC-C8E8-447B-AB8B-E7E7A765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33D-AA0E-4004-B669-666B2E4A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3A3-EC03-455E-8FD8-9F8E340B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C8F-4F85-4328-ABBE-9AD57978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D2B-34A8-43FA-9965-99D9A92B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A60-C10B-4A58-B056-F2536CFB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6DF-16A2-4209-ABB5-98C5D785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921-0A6F-40F2-B985-1B813CA7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341-0D43-4AD4-862E-AB2E5521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A17-3DCE-4FF7-9E4D-A59F022F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149-D6B8-4689-BCA0-AB60DD96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B5E3-DC1A-4567-93FD-AFB63376B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 and Ontologies at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240" y="90360"/>
            <a:ext cx="167616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" y="1590840"/>
            <a:ext cx="8877600" cy="367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98600" y="2286000"/>
            <a:ext cx="1738440" cy="1111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73720" y="2101680"/>
            <a:ext cx="3429000" cy="1067040"/>
          </a:xfrm>
          <a:prstGeom prst="rect">
            <a:avLst/>
          </a:prstGeom>
          <a:solidFill>
            <a:srgbClr val="f7f7f7"/>
          </a:solidFill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438280"/>
            <a:ext cx="1676520" cy="703800"/>
          </a:xfrm>
          <a:prstGeom prst="wedgeRectCallout">
            <a:avLst>
              <a:gd name="adj1" fmla="val -53305"/>
              <a:gd name="adj2" fmla="val -77296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Stra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62120" y="2155680"/>
            <a:ext cx="152280" cy="100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" y="1590840"/>
            <a:ext cx="8877600" cy="367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81480" y="5105520"/>
            <a:ext cx="2590920" cy="1008720"/>
          </a:xfrm>
          <a:prstGeom prst="wedgeRectCallout">
            <a:avLst>
              <a:gd name="adj1" fmla="val -57166"/>
              <a:gd name="adj2" fmla="val -124560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e Existing Phenotype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" y="1595520"/>
            <a:ext cx="88776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42600" cy="490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62520" y="4495680"/>
            <a:ext cx="2590560" cy="1313640"/>
          </a:xfrm>
          <a:prstGeom prst="wedgeRectCallout">
            <a:avLst>
              <a:gd name="adj1" fmla="val 58875"/>
              <a:gd name="adj2" fmla="val -7958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vigate Parent and Child Terms. Click to Populate Phenotyp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2971800"/>
            <a:ext cx="2286000" cy="703800"/>
          </a:xfrm>
          <a:prstGeom prst="wedgeRectCallout">
            <a:avLst>
              <a:gd name="adj1" fmla="val -66245"/>
              <a:gd name="adj2" fmla="val -10474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Phenotype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598760"/>
            <a:ext cx="8877600" cy="5335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4191120"/>
            <a:ext cx="2590920" cy="1008720"/>
          </a:xfrm>
          <a:prstGeom prst="wedgeRectCallout">
            <a:avLst>
              <a:gd name="adj1" fmla="val -57472"/>
              <a:gd name="adj2" fmla="val -11731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e Reference by ID or Autho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4303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800600"/>
            <a:ext cx="2590920" cy="703800"/>
          </a:xfrm>
          <a:prstGeom prst="wedgeRectCallout">
            <a:avLst>
              <a:gd name="adj1" fmla="val -41736"/>
              <a:gd name="adj2" fmla="val -10362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nno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1595520"/>
            <a:ext cx="8742600" cy="511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00600" y="5181480"/>
            <a:ext cx="2590920" cy="1008720"/>
          </a:xfrm>
          <a:prstGeom prst="wedgeRectCallout">
            <a:avLst>
              <a:gd name="adj1" fmla="val -60041"/>
              <a:gd name="adj2" fmla="val -127773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  Annotations To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0160" y="1295280"/>
            <a:ext cx="87422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/PATO 2003 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991360" cy="42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82040" cy="3435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Resulting Phenotype Display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on the Gene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895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67480" y="3070080"/>
            <a:ext cx="1828800" cy="38124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0160" y="1295280"/>
            <a:ext cx="8742240" cy="5567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1080" y="5029200"/>
            <a:ext cx="2590920" cy="1008720"/>
          </a:xfrm>
          <a:prstGeom prst="wedgeRectCallout">
            <a:avLst>
              <a:gd name="adj1" fmla="val -95884"/>
              <a:gd name="adj2" fmla="val -64162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 Existing Phenotyp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4840" y="1676520"/>
            <a:ext cx="8732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4840" y="1625760"/>
            <a:ext cx="8732880" cy="5136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95280" y="3079800"/>
            <a:ext cx="1295640" cy="30492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4267080"/>
            <a:ext cx="533160" cy="30492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105520"/>
            <a:ext cx="1295280" cy="30456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Additional Ontologie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04760" y="1828800"/>
            <a:ext cx="3110040" cy="4997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83520" y="13431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41200" y="1371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25016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Dissection of Dicty phenotype ontology terms to fit PATO Entity-Qua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Collaboration with other groups on PATO and phenotype-related ontologies (e.g., genetic context, environmental cond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Provide phenotype annotation tool to GMOD as open-sourc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Principal Investig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Rex Chisho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Warren Kib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Software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Eric 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Sohel Mer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Cu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Petra F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Pascale Gau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Karen Pil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GO Consor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240" y="90360"/>
            <a:ext cx="1676160" cy="1025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Ontology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30560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362320"/>
            <a:ext cx="431136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420 Phenotyp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1780 Phenotype A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470 Genes with Phenotype Annot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revious Phenotype Representation in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900000">
            <a:off x="2971800" y="274284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13045200">
            <a:off x="5409360" y="2718720"/>
            <a:ext cx="685800" cy="22896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2120" y="3124080"/>
            <a:ext cx="2792160" cy="1648080"/>
            <a:chOff x="762120" y="3124080"/>
            <a:chExt cx="2792160" cy="1648080"/>
          </a:xfrm>
        </p:grpSpPr>
        <p:sp>
          <p:nvSpPr>
            <p:cNvPr id="59" name=""/>
            <p:cNvSpPr/>
            <p:nvPr/>
          </p:nvSpPr>
          <p:spPr>
            <a:xfrm>
              <a:off x="762120" y="312408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1920" y="3276720"/>
              <a:ext cx="2362320" cy="134280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92320" y="342900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943600" y="3124080"/>
            <a:ext cx="2666880" cy="1648080"/>
            <a:chOff x="5943600" y="3124080"/>
            <a:chExt cx="2666880" cy="1648080"/>
          </a:xfrm>
        </p:grpSpPr>
        <p:sp>
          <p:nvSpPr>
            <p:cNvPr id="63" name=""/>
            <p:cNvSpPr/>
            <p:nvPr/>
          </p:nvSpPr>
          <p:spPr>
            <a:xfrm>
              <a:off x="5943600" y="3124080"/>
              <a:ext cx="2362320" cy="134316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5880" y="3276720"/>
              <a:ext cx="2362320" cy="134280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8520" y="342900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124080" y="1922400"/>
            <a:ext cx="2764080" cy="51300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6376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11440" y="1927080"/>
            <a:ext cx="2844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7212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9640" y="19270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New Phenotype Representation 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in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784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3152880"/>
            <a:ext cx="2362320" cy="1342800"/>
          </a:xfrm>
          <a:prstGeom prst="roundRect">
            <a:avLst>
              <a:gd name="adj" fmla="val 16667"/>
            </a:avLst>
          </a:prstGeom>
          <a:solidFill>
            <a:srgbClr val="eccf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4305240" y="2725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4400000">
            <a:off x="3224160" y="2725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8900000">
            <a:off x="5372280" y="2725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4298400" y="46670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9800000">
            <a:off x="2936880" y="4666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 rot="13500000">
            <a:off x="5721120" y="46281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4140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9428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1924200"/>
            <a:ext cx="276372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0960" y="1928880"/>
            <a:ext cx="2840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288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5840" y="1924200"/>
            <a:ext cx="276408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552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43200" y="1928880"/>
            <a:ext cx="2844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609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038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214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88040" y="1924200"/>
            <a:ext cx="276372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772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75400" y="1928880"/>
            <a:ext cx="2840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931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360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536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Strain and Phenotype Display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on the Gene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895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6294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d Strain Details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Development of a New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Developed in collaboration with NC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Similar in functionality to Ph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Web-based tool that can be accessed from any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Features of the New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Runs on top of the Chado database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Uses terms from ontologies in .obo format for phenotype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Auto-completes ontology terms similar to Google Sug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Built using Web 2.0 technologies such as AJ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30:40Z</dcterms:created>
  <dc:creator>Petra Fey</dc:creator>
  <dc:description/>
  <dc:language>en-US</dc:language>
  <cp:lastModifiedBy> </cp:lastModifiedBy>
  <dcterms:modified xsi:type="dcterms:W3CDTF">2006-12-01T20:12:39Z</dcterms:modified>
  <cp:revision>37</cp:revision>
  <dc:subject/>
  <dc:title>Phenotype Curation Tool and Ontologies at dictyBase</dc:title>
</cp:coreProperties>
</file>